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049-8B4F-48F2-9052-7FF9D926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493-29DC-4D2B-8CD3-20A6738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B7D9D-2931-44F7-9BE8-201D8D3A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15837-CE3C-4D8E-9B16-DAC1189F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FD1C5-2B77-44F9-8186-E17B3A24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24627-4554-486B-8DCA-C10B7ADE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6FD3F-9CCA-47DC-93ED-51534C3F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0F376-D59A-44D1-A030-27D4AC6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62411-D343-4F58-8081-69102B29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4A5C7-3333-4E7E-9A32-A0CCCDF1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EA35C-CC4A-42F7-BBA0-2BB6ECED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88B17-DBC5-45DB-A840-111EE1BC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7AE-60EB-4213-B618-6E71A5C0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C18E7-1038-4968-85E1-6C160263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2F1A3-DDDB-4D5D-86EC-0D1F378E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8A8A3-2C6E-48D1-8865-9E4EE05F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6903F-C372-4413-9981-C6D15957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4530B-D3F4-47B8-8E5D-743083DC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BD117-076B-4900-AA53-639E549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E4F30-7F53-41E3-9B27-5C2FF0B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AFE3D-26CA-416F-A238-CDB6E718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0C40B-95CA-44CE-89AC-296DA7B4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97035-C024-41DC-9805-51DE5D09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8C2-DA9C-47B6-94A2-7B0DD042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F363C-2CE0-4071-8601-32A785B5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47D3C-243B-4D65-806F-7E6181CD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DEB41-684D-49AC-8947-480C7C82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83E1C-7D2C-4E51-B1F1-DFE45909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05E29-3E21-45AD-A21B-FF546D5E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B0586-EDB4-4D92-90BC-F906B1B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6B6AC-CF27-4EC6-B2F2-EADF4500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E7D3B-B909-48CE-8A8F-013BB85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254A9-EF84-487F-8BC5-A0142780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24E5E-C377-4BD4-9FC9-23D6FE0A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E51B-5608-4A78-969D-66CE46EC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16332-4A0D-4DBF-A594-5A94F51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A7AC3-1A13-46E2-8ED8-0E33834A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D9717-5962-4B5B-B8BF-3C344D62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036FE-370A-49DE-92B9-06B668E3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0616D-5917-41B1-AA89-4D5777DF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E2999-48F7-490A-9ED6-68AD05A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1F76A-5CA8-4A0A-BBF6-CE546A07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2B032-E6D5-4E69-8B27-59BE31C0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6B291-16D6-4325-9799-DF1668EA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4157E-399B-4B8F-9EB8-214C3AD9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4818-15E4-4487-9DB3-76FB34FE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504C5-CDA8-4ADA-AD14-907B26C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3DCBB-4997-44DF-851F-F8813892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1C29A-2E3E-4291-93BC-D7C2C961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A644D-A96A-49E9-98C3-5512DEDE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5BC37-8461-48AF-9CF7-A9693912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B27FE-CDA2-4B05-A889-9DDE344E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F39E9-F60B-4A1A-A30A-F9972C0F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C0BC7-0CE5-4530-9D9E-31FC5D04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2223F-6A74-486E-8A66-06271385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7AC26-52B5-4F5D-AA9D-FFB470A2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F104-0301-42BA-882B-A7D967D2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234FE-BFD3-4439-9E37-F2C7F399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A7F4E-F13D-489B-A801-E3B5C459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2E0FE-192D-4D2C-96A0-AFF42E3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3FA43-D930-47F7-BA22-38DC32A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DB1F5-26EE-4D53-9087-1BCEB1B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D2B2C-1B15-483B-966C-6F9D58C1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81393-C707-4405-B7AC-90BF9B6F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04C1E-170A-49B6-8F76-55D1ABC4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64CDB-DF57-48A8-A40D-3DD363DA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F3CF1-4BAC-48CB-B502-1C98939D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F3D4-B2BD-43B9-ACE8-EB197C66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A6FB7-F570-41A4-9B04-45FDADE0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3DCA4-417E-488E-BF39-542BFA7E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7004F-C395-483D-8068-CF888874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E1795-A351-44BB-BE32-EA045C23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7C942-9CAB-4661-B7DF-AE285AEB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F41C6-3C11-4B8A-A385-94F73C9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4230B8-F988-4780-8B11-572FD151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973D7-C5C6-4219-B3F8-9035F01B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1FEA6-E79F-413D-A608-F546B583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D5413-310C-4B1D-A043-A79BB443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AB0B-30AD-4827-B41F-4E4778E1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A156A-772B-4577-A4E3-BD3943EF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4000A-95D3-49B6-AFD5-D6188355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81B17-BEF6-4E0D-9B94-40553AB2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5A4C4-30F9-464B-A573-C4923F50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CCA47-2532-4BE8-B41F-8E694113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6050B-5FB0-4A7E-BC24-3A94ACD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FE22F-5E39-4393-99B8-8258112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5FFE3-C116-4A4B-B70E-F660F9B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DDCF0-D604-4D49-A7EA-1A6A9912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0B806-5E4E-4844-8F01-7810DB87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E5B6-8C5E-4D32-B5C0-C95C4C08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D70F3-B578-4CF2-A047-966C408D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B6F4F-6473-4454-82C3-B1489807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50BB3-80CA-4958-8D0A-B9D8974F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F2DD6-DF44-49E7-9C71-EAFD1630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EBE8B-61BC-406A-94C0-DFCBD7D6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ADB846-79B5-442C-AD2C-77C03DB7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8F84C-C0CC-43F6-A69B-1243BA7E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41767-D318-43D6-93C4-80067161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8E7D5-6C96-46F6-A242-6844D8A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1C57E-54B9-4296-95FF-6E4EC0D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7581-73D4-46D2-9474-0004F56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55D20-500B-428B-8C2E-3EC43987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C8DFA7-AFE7-4DA4-BDCF-F92A2CF7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0272E-56CA-4A7D-8404-559A2E00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7E6D69-F78B-416D-B489-420BECEA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D2B70-496F-4EBD-85F1-BC99E8D8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F85E0-7595-4F51-9CF4-362826ED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9742A-3749-4433-B63D-BED8A803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838D0D-5BD5-41B7-A558-BF257916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2E6FC-8DA7-4E0C-AC95-045CF677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9DBE9-B7ED-4953-BD53-E9A4DB01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577-BF0C-431E-8AE0-7CD174FA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9B52-95BA-4EE0-A8C3-22D83AFB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6B694-644D-4DDE-8E88-3A2104DB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0B9339-3419-42A9-A086-D3014110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D6AA5-3CB3-422B-9380-83BC5F9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638A4-5A38-4DA8-869C-9D3EACB2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F72B9-362B-4EFB-A9B3-DCD0B39B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B3380-AB1A-4D2A-9AEC-E4AE752B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954AFD-8FBC-45CA-AD32-01E6B13C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CC7B7-5472-4676-AAC6-44AF2247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8D2FD-48B8-4344-A21C-E2DCD97D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722E1F-B7C6-4F05-9FDC-5173F609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E9E6-6A65-4DDA-829B-F70F05E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01AAEC-DF97-41A6-902A-CA6B30B2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3B0D9-AF59-4F40-89AF-56DDEF2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4C31F-C852-47ED-A192-1FF7063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EF1A9B-87E7-442C-883F-1C8F1590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92480-F7A3-4B02-8DC3-86349C68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353CE-6D62-40A9-99DC-6D323476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340F9-6E50-40D6-A201-F25AE1EA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007BE-5854-4C01-8E92-8FD631EB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CED9F-1D4A-4203-941C-26C20063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18F24-ED3E-4AC1-92F6-6BE60F72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0289-392F-41D9-B0C8-ADC36263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0D6F01-FE86-44DF-9121-E4FB4B6B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2E440-3B27-46B3-A994-BCC543B6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B220E-6BA7-4363-8037-CA339DF4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7E044C-C8B5-48E1-AFE4-849BD0D6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6F5C5-1D33-4207-A7E6-4E81DEC9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E3DE19-D999-4991-80B1-2B682551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C2075-9DE6-4565-8ECC-9DB6D3A8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DDE40-3B95-4DA0-8550-D7FFD0D7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523C2-DB89-4039-A19F-D60A04C1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A0146-4D84-4B5B-9B82-F03E56A8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157F-A00E-4195-BD39-78F009A9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70C2F6-DA98-4116-850B-5D4B55E7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3D383-E7C6-4559-988C-7F50D1A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49A46-6E17-4ED4-9F6B-67D8B06F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4DC4CA-1C7D-4281-BDDF-DFB50394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0BF7D-CC5D-4A11-81F4-86CD6644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321EE-FB43-44E2-A426-8AAE4585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A751AA-F79B-4E4A-9C68-C94ADD4D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89692-F9C7-4685-BAF4-A1C9047F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76FBD4-1194-44B7-A6BA-5FF532A0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BAB66-929A-4700-BA1A-7C5E3184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BC30-64B7-4A22-9F15-779B93E3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98989-5693-4654-9BEE-CB65F07A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8D77D-964A-4195-9B18-7088C395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00D4E-02C5-476B-953E-5B1D445F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A9C4D-8E4F-4AB4-8D8E-DFD5A152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847E1F-0C2C-4482-A7EE-A956C2E1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743EA-E0AA-4A8E-8B60-EFD6155F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D5576D-852A-4214-B319-A1E117BE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62F481-656A-48A4-B311-36F7BB20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6769D9-2ECD-450C-9C4B-9D8DA1B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332BE-3093-4CC7-A9D9-13739D55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318A-AFD6-4501-9779-E8D8FBEF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35272-1A98-46DA-A57E-D42844D1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90FF7-A524-49E6-9981-F9F061D8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339C43-93C0-4057-A33C-F390FEB2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B9B9A-C41E-4B36-B4FF-8F41069B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A6F444-0CFF-4725-873D-C602CD1C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7BDFE4-0023-4418-8E86-948B04EC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3EA6DC-FC3F-49FC-8FA0-3BB83B1D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28067B-0BAE-4846-BBE7-F6F0C657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4E49F7-D4B9-4EDE-94CA-07242DF6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7247B2-B9CE-43FA-8F21-5F38619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8DD0-3C62-480B-A0A8-0F2C9E3F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3EFF3-AED8-4AC9-BA5F-5B488413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7AAFE9-F87E-4B36-BB31-3E7E7F72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DDB53F-B66E-4E39-B08B-52B3914A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810E8F-10D0-4629-9CCA-389F7890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110A3C-3F09-4327-B68D-7D996FF3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A547C6-2FDF-43FF-9A63-86451E84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FC6683-FFC9-4FAA-AAFF-0E16C095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4DE18-D7CA-4A56-9665-D8471D89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AB30B5-A23A-402D-9532-694E7CA2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1B8A86-7F83-4254-ADFF-C8605C4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61E8-213E-40C2-B22B-0AC4DF38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116C8C-C0E7-492C-A9EE-03721C1F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D741D6-3872-43C3-B043-B8F3A467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6EBB91-8148-4D40-980D-D1613FCF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D8CAA6-E423-40B1-ADE6-D32100C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B1EAD0-D31F-44BA-A53D-1A3E84FC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287F59-6828-459E-9180-88ED1436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0CA38F-3207-4638-92C9-72A20835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A14E46-F695-4413-8B28-B2CD10FE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A07544-F999-4E38-A14C-B8670B66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6F73D7-1145-4B86-A200-3B6A3A69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DF49-97BB-4D0D-A5DE-3FF3054D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D8960-58FA-4793-A821-F1FF028F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3A216C-BAFC-4F5B-9F9C-114A334B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9F01CE-D515-41C1-8FF3-97A651A7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BCE372-25FA-45CE-A330-0618CB67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6A5B5-D360-4ECA-BA63-C45FAC1D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31C5D7-8761-4EAE-B915-708FDB4D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545787-0DED-41E6-BCA9-14A561D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1AF158-BED5-4DAC-B6F9-93DC127A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46CBB3-4625-4DD7-96B6-AF06FF8C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AF84D5-45E7-4083-BCBB-FD607158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5F79-2F23-4EBC-9B8A-B35058D8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0EFF6B-6146-473B-A6B2-A951F3F7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0D780A-6977-4C77-89F5-70A91ED7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D4AB2B-B354-4086-88F6-EF32D725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24C532-CF23-4531-8AF7-0493EE7A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3E3F0A-B0EC-4FFA-89B1-93642F7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87CE53-4E1C-4F4B-AACA-13983ED7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EC576C-C641-4A45-9132-249C6376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1FAACC-0197-4195-82BA-58FC822D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F922F6-553D-4157-8DFE-F8BB772B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493FF1-30E6-4C5B-BC39-B7EBC248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26F-52B7-4C10-B4E2-7B4036DA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5246-0A2E-4F87-BE1A-240382D5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865B45-142E-47CD-A73C-65A0CFFF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751364-C691-45CB-8DBF-C0E05C9A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C18676-FC8E-421D-A997-00169CB4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32CED4-6257-4DE9-B385-7B1B514C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CEEBF3-E274-43D7-A3C0-582F8B17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40BD53-043B-4FF4-8A88-5AD4FD2D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2FACE5-DF25-400C-969A-6A34F0A6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8C3AD7-989B-4847-8034-43459DD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2A8448-B8B0-4411-B073-C5C734E4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B165FC-765A-4ACE-A595-F1BC1A4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EC91-E22C-417C-997C-522460EA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CC3B65-E36B-422B-8114-7C5A19CF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4434FA-671C-48C2-A6C7-D90B7C6D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2D7731-06A1-465A-AA7E-C705AC29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B0D6B7-C7C8-40D2-BE45-DF52108D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2DFF2F-E938-457B-BD4B-F7F0E54D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ACC80B-CD11-43B9-9E37-F6664561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3235D2-0CCB-4EA7-AEC6-407185FD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0E707F-B92E-4DFF-B786-9C7ABE2B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465DBB-6558-4234-8D90-20ED9C74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9AA809-E7FD-43D4-A4F5-027F495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DE562-7EFD-4273-962E-13705FA1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225925-4F6E-47AC-A21F-7B30158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583237-3566-4175-BBC5-346CFE06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05356A-2C3B-4619-8E93-F878AE77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843D4E-7B0D-406D-A9CF-4DAD8987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167216-F94F-4EB8-9B8A-0EB46440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A7B317-F789-471E-9B47-BBEF3424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386EFC-9143-4A9B-B195-4EBCFC8A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71FAE2-5FB9-4DB4-AD51-17A93137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98BDBC-37D4-4B3F-B364-92A18A8F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AFC155-AF67-434F-A769-9298CE77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31E6-32F6-4CD5-B0C7-CC417DE1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312C0B-D2D0-44EF-904A-D20236FA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EC0C71-DF9E-48DC-8A7C-71A28ACA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E9D0AB-5632-4A20-9CF9-24CF0EDD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0BB3FB-CE65-4C83-A090-981F2875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18DFB3-E306-43F5-AB3A-C7C2954E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C0BB53-38BB-473F-AE89-4BCD496C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D43C02-6B53-44BB-ACA6-81A924C7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BC0C7E-1592-462B-9789-1BABECB9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1E9769-230F-47E5-8729-5E3C6C4B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F14335-F2EE-44C0-AD1E-EA9E2EB6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C9DD-577E-4BC5-B7D2-B5E2336A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5F0C1C-76C6-4D57-B985-1FC5BA94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DF24E3-F90A-4CA8-B9DF-0D1B90D2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F85068-086E-4938-9CAB-6E8647D3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F75EE2-B75D-4D2D-83F1-BB91EAAA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EEF4FC-5381-4AA8-883C-7CBC1665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57BB9C-E092-4846-89AB-85CDA8F7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106A79-3DB4-47CC-9056-D9B0AB2F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E86164-0A55-4EB7-BF2D-0BBDEE71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97A70F-73A6-4A5F-BDAF-019D278B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5362E1-0AC7-4894-9574-4B6C4E01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9A0C-6B9F-461F-BA2D-B0E226A5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8FB09E-0080-415D-94C5-A7C924CA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B21EB6-F05D-4504-B5B8-EFB997C1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CBD8F2-9805-41DD-837C-D6D29B50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FE656C-B247-498E-A64A-275F7875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506A0F-100A-4908-BC3F-AD74FEED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A378A5-D44D-4186-89A8-7E5972E5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22548B-8853-46C3-8F0D-31C0CC92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F469DA-7C53-47DB-AC08-47686FDA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97DF09-B402-4B37-B0FD-022E2C05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D7A708-37FF-46A2-8D30-A589F753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91F4F-7F68-4760-A7FC-A62559F4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76EA11-E913-4D21-8AB6-02DCD914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B102DD-62B8-4C16-A75F-7BF6DCC7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432136-4A3D-4F95-A7A1-D9076F12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8D80F8-7DD2-4A11-81AF-6E5D146B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4E8F58-FF63-491C-AC50-FE02B1CB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8FE920-9E29-4568-B6BB-2FA5D944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E587A1-0816-493E-8F78-1AAE17DC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6066B5-5562-4067-9AAE-AE9DD402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47E078-ECC0-4CB1-B9D0-00687824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7F7A7B-CC24-4622-841B-D5E3029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B0FD0-15D2-4439-A453-F07E21E8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41EF3E-AB7A-4397-AB59-0CDA4C0A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E26F7A-342F-4D6B-B1B8-8504E575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91FCA7-7F68-4FB4-9614-7051C0FE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6833E-F52D-40DC-87C1-15E6292E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C7BBC-9750-4812-B119-9061B11C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010-524C-44A2-883E-1A97E691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BB157-CB2E-4CA4-9113-549DA8D5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40BE-A860-410C-BD04-869C0535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A28A-38EA-4CB1-9FF7-1DE3BF1B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9700-9A84-4DDC-BA9C-1134EAC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CB51-9CC6-4E52-961E-6558306A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1EB7-B2E5-4C9B-B547-ED20F980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9F5CA-81DC-4221-8C90-BB54D264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8D47A-0F65-483F-A69F-35AD8FF8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7237-14BC-4663-8694-306081DE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5D5F7-07AF-4D57-AADA-8F8516B9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5ED-4449-4B42-BEED-891ECA64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F28EE-D000-4759-BED2-B2D43064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0FE9A-7A7D-4360-AC6A-5F44D284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512C1-71EF-4368-920A-6B0852D2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760C4-60E6-4E36-A6F2-30BFC838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0BC2-2394-47F3-BC7E-1B1BBF8F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60642-18ED-4262-9223-E07DBDC1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D544-2EF8-4F3B-9FE0-45FCEFD1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54A7-8335-471C-B18D-24EA3EE8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47239-0CFF-417E-8F02-C55DC850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FC0EA-7346-4730-9F80-22D42031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092-807C-4EFF-B7C9-A598C59F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9AE25-DA06-41B9-A34F-66C29466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3D22-6FC0-4831-A41E-853CB147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19CA-5D68-4D52-9FE3-1879D334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CB7A7-8A6E-482F-9012-82AAF784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9FD18-64BC-4F8B-ACAA-980919D3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828C2-CB43-4E53-BB73-C1306B22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B0D4-C9A6-4DA8-A7B9-ED5EB5F4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46992-30AC-4FF4-B0D8-DCDAF42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43624-B680-4A74-9AC6-E1B0B64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91E82-5938-4A13-AFD5-211E6A17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5E3-3C5A-43C4-AB19-D4D9C035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9402E-3213-4B9D-BABC-AF624374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E251F-18BF-44ED-90CB-87CA09DF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7E45-7F1C-4831-9DA0-1AEA6605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B1DB3-B79D-42F9-BF73-927C022D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052B9-C23A-4239-A486-00D27D9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75FB2-F8FA-4420-A137-0A8B33F9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3E3F4-E92F-4E29-9A97-E1D3D41B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98020-F983-4500-A162-435CAB4F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18721-E254-473E-938E-050503C3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DBE9-11B3-4CE4-BD64-41A6C50A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B65-117B-4BC6-90A5-94ECA54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32263-6232-4397-B2F6-2ABD08EC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EA8AB-CF79-43D2-B69A-1BAAFD2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E33D3-B10D-469B-A70C-84ED914C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7CC78-F942-4BC3-8238-B186676B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22A0-22B5-4F1E-BDC8-70EFDCFA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95922-AC9D-4C99-9332-9F0202C8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D58B4-30AB-42C5-B63A-E8016E54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7906F-C6D5-4AE1-9B98-E7984173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5BA79-F09C-469A-ADAA-8455EAA6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FE9C3-E06D-4D0A-835A-A0ABB998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C2F-6E13-4F90-A668-E6E372E7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CB5EB-613F-45F2-81E5-A323BC8E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3077-74C6-420A-8882-A2F48C6B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873A4-6102-43E0-8F29-0D0B145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D3468-4C1F-48A2-BF04-0A43F3E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2A542-D83B-4263-8597-CAD8E419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B89A5-7970-4DF4-8591-A44C219E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74F71-9182-4F96-B6FE-26C83226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97168-76E3-4D0A-B695-BB5C137D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2BD58-B931-49B7-9D74-CA093861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25203-FB8A-4FCC-9306-49520CEE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98F0-FB95-416B-BB0B-74BEE7C5D6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3B96-71C4-464A-B94C-6BAD79D3A7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47A7-E0C7-4F47-A66B-0493E406F0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1ACE-0115-4E09-9ED9-CD12E129E1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80DA-7BF6-4BA3-B4A0-3410232227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0E94-FDB4-4D63-A842-D1DF33112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081C-9DEC-4BB0-A24C-F02C30063F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16D0-7DE8-4263-AABE-42F6B26C95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484B-3CA3-4013-AA36-420AC077E5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D8F0-147E-4A12-B81F-9ED49EB100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7BF9-D64A-438A-A432-7E1A6DDD0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9172-4B75-48F3-A158-200DDF5795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B2D1-927F-40E3-913B-7D69D86C18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6262-8E26-419D-AB91-BBC74F8FDE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BBAE-FC0E-47FF-AF57-DBA1F836D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D90C-257E-4570-B6BB-493346B59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5CCC-CC75-4597-80D2-71EF937D95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4153-B01D-4889-AF62-B10E03752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E6A4-0B78-4821-93B3-3A5017C135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A065-431B-44FA-97D9-54E3D2E7C6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FD41-3C59-4F87-B598-E37919203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DE0-E736-4179-AFAC-309F745E80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611B-47BA-454A-9EDD-D899D44451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BA2F-5A9B-4DE6-926D-167D26B05C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5C4E-D21D-46FF-8907-BA668D925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03D5-24F1-4923-B4DC-0C3454364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4F57-132B-403F-A1FB-0952246502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512E-DA22-4F9D-803B-D0F925088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86BE-8BC1-4B20-A273-FE53C3731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675A-93FA-4587-8CAA-2DC95E29F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A5E4-994D-4EB0-9F5D-2D6D9AC54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25C1-E4C8-4EB6-8179-B5B60B6ADE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AF96-9C3D-4AB4-8E29-300EAF0D6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FB66-6675-4355-BC85-80516FBA0D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12FB-C36B-4946-91F8-3872480F53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FF59-65C9-4120-B6A2-3C82D5015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E7D5-205A-468E-A5B3-51EC6B59E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D174-54CF-4034-A73D-342978C4A5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12E2-8607-4B32-8C14-A4A0BBF397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F07-51EC-4C9F-8BAD-33824D4EF0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8C3B-EA9E-4B25-8B36-5F58C04FC5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1151-2DDC-48AB-B3EF-440CBECFB8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20F7-232E-4903-8E17-6EF6F041C4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47D5-E8AA-4C3B-AAEA-5D24203453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BB6E-354D-4068-9AF0-855A21E8F1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EAF6-13D6-4D9C-8EF9-3411B17712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3C3C-7136-430E-BDF6-0D0918CD3F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AAEF-A907-4A9F-B276-2E31D0CF20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CF16-53D4-4EF1-8D9C-D82F8A4084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4E51-0C94-4162-9015-CB5A1FE20D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3990960" cy="6764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763640" y="3357720"/>
            <a:ext cx="5600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116737" descr=""/>
          <p:cNvPicPr/>
          <p:nvPr/>
        </p:nvPicPr>
        <p:blipFill>
          <a:blip r:embed="rId1"/>
          <a:stretch/>
        </p:blipFill>
        <p:spPr>
          <a:xfrm>
            <a:off x="571680" y="1276200"/>
            <a:ext cx="8001000" cy="4305600"/>
          </a:xfrm>
          <a:prstGeom prst="rect">
            <a:avLst/>
          </a:prstGeom>
          <a:ln w="0">
            <a:noFill/>
          </a:ln>
        </p:spPr>
      </p:pic>
      <p:sp>
        <p:nvSpPr>
          <p:cNvPr id="1502" name="矩形 116738"/>
          <p:cNvSpPr/>
          <p:nvPr/>
        </p:nvSpPr>
        <p:spPr>
          <a:xfrm>
            <a:off x="2319480" y="5162400"/>
            <a:ext cx="885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16739"/>
          <p:cNvSpPr/>
          <p:nvPr/>
        </p:nvSpPr>
        <p:spPr>
          <a:xfrm>
            <a:off x="4211640" y="5157720"/>
            <a:ext cx="8859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16740"/>
          <p:cNvSpPr/>
          <p:nvPr/>
        </p:nvSpPr>
        <p:spPr>
          <a:xfrm>
            <a:off x="6227640" y="5157720"/>
            <a:ext cx="8859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15713" descr=""/>
          <p:cNvPicPr/>
          <p:nvPr/>
        </p:nvPicPr>
        <p:blipFill>
          <a:blip r:embed="rId1"/>
          <a:stretch/>
        </p:blipFill>
        <p:spPr>
          <a:xfrm>
            <a:off x="852480" y="2233440"/>
            <a:ext cx="7439040" cy="239112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15714"/>
          <p:cNvSpPr/>
          <p:nvPr/>
        </p:nvSpPr>
        <p:spPr>
          <a:xfrm>
            <a:off x="7558200" y="2286000"/>
            <a:ext cx="7714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15715"/>
          <p:cNvSpPr/>
          <p:nvPr/>
        </p:nvSpPr>
        <p:spPr>
          <a:xfrm>
            <a:off x="1379520" y="2762280"/>
            <a:ext cx="11905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15716"/>
          <p:cNvSpPr/>
          <p:nvPr/>
        </p:nvSpPr>
        <p:spPr>
          <a:xfrm>
            <a:off x="3203640" y="2781360"/>
            <a:ext cx="1886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15717"/>
          <p:cNvSpPr/>
          <p:nvPr/>
        </p:nvSpPr>
        <p:spPr>
          <a:xfrm>
            <a:off x="2340000" y="3255840"/>
            <a:ext cx="46576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15718"/>
          <p:cNvSpPr/>
          <p:nvPr/>
        </p:nvSpPr>
        <p:spPr>
          <a:xfrm>
            <a:off x="6797520" y="3726000"/>
            <a:ext cx="11908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15719"/>
          <p:cNvSpPr/>
          <p:nvPr/>
        </p:nvSpPr>
        <p:spPr>
          <a:xfrm>
            <a:off x="2050920" y="4216320"/>
            <a:ext cx="11908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图片 114689" descr=""/>
          <p:cNvPicPr/>
          <p:nvPr/>
        </p:nvPicPr>
        <p:blipFill>
          <a:blip r:embed="rId1"/>
          <a:stretch/>
        </p:blipFill>
        <p:spPr>
          <a:xfrm>
            <a:off x="523800" y="1461960"/>
            <a:ext cx="8096400" cy="3934080"/>
          </a:xfrm>
          <a:prstGeom prst="rect">
            <a:avLst/>
          </a:prstGeom>
          <a:ln w="0">
            <a:noFill/>
          </a:ln>
        </p:spPr>
      </p:pic>
      <p:sp>
        <p:nvSpPr>
          <p:cNvPr id="1513" name="矩形 114690"/>
          <p:cNvSpPr/>
          <p:nvPr/>
        </p:nvSpPr>
        <p:spPr>
          <a:xfrm>
            <a:off x="7834320" y="403848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图片 113665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72200" cy="5248440"/>
          </a:xfrm>
          <a:prstGeom prst="rect">
            <a:avLst/>
          </a:prstGeom>
          <a:ln w="0">
            <a:noFill/>
          </a:ln>
        </p:spPr>
      </p:pic>
      <p:sp>
        <p:nvSpPr>
          <p:cNvPr id="1515" name="矩形 113666"/>
          <p:cNvSpPr/>
          <p:nvPr/>
        </p:nvSpPr>
        <p:spPr>
          <a:xfrm>
            <a:off x="2557440" y="332424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13667"/>
          <p:cNvSpPr/>
          <p:nvPr/>
        </p:nvSpPr>
        <p:spPr>
          <a:xfrm>
            <a:off x="4140360" y="3313080"/>
            <a:ext cx="5140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13668"/>
          <p:cNvSpPr/>
          <p:nvPr/>
        </p:nvSpPr>
        <p:spPr>
          <a:xfrm>
            <a:off x="5724360" y="3338640"/>
            <a:ext cx="5144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13669"/>
          <p:cNvSpPr/>
          <p:nvPr/>
        </p:nvSpPr>
        <p:spPr>
          <a:xfrm>
            <a:off x="7351560" y="3348000"/>
            <a:ext cx="5144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13670"/>
          <p:cNvSpPr/>
          <p:nvPr/>
        </p:nvSpPr>
        <p:spPr>
          <a:xfrm>
            <a:off x="5580000" y="4289400"/>
            <a:ext cx="240984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0" name="图片 11264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876840" cy="933480"/>
          </a:xfrm>
          <a:prstGeom prst="rect">
            <a:avLst/>
          </a:prstGeom>
          <a:ln w="0">
            <a:noFill/>
          </a:ln>
        </p:spPr>
      </p:pic>
      <p:pic>
        <p:nvPicPr>
          <p:cNvPr id="1521" name="图片 112642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7686720" cy="2067120"/>
          </a:xfrm>
          <a:prstGeom prst="rect">
            <a:avLst/>
          </a:prstGeom>
          <a:ln w="0">
            <a:noFill/>
          </a:ln>
        </p:spPr>
      </p:pic>
      <p:pic>
        <p:nvPicPr>
          <p:cNvPr id="1522" name="图片 112643" descr=""/>
          <p:cNvPicPr/>
          <p:nvPr/>
        </p:nvPicPr>
        <p:blipFill>
          <a:blip r:embed="rId3"/>
          <a:stretch/>
        </p:blipFill>
        <p:spPr>
          <a:xfrm>
            <a:off x="401760" y="4019400"/>
            <a:ext cx="7667640" cy="1543320"/>
          </a:xfrm>
          <a:prstGeom prst="rect">
            <a:avLst/>
          </a:prstGeom>
          <a:ln w="0">
            <a:noFill/>
          </a:ln>
        </p:spPr>
      </p:pic>
      <p:sp>
        <p:nvSpPr>
          <p:cNvPr id="1523" name="矩形 112644"/>
          <p:cNvSpPr/>
          <p:nvPr/>
        </p:nvSpPr>
        <p:spPr>
          <a:xfrm>
            <a:off x="1204920" y="24289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矩形 112645"/>
          <p:cNvSpPr/>
          <p:nvPr/>
        </p:nvSpPr>
        <p:spPr>
          <a:xfrm>
            <a:off x="3257640" y="2406600"/>
            <a:ext cx="485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112646"/>
          <p:cNvSpPr/>
          <p:nvPr/>
        </p:nvSpPr>
        <p:spPr>
          <a:xfrm>
            <a:off x="5148360" y="242100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矩形 112647"/>
          <p:cNvSpPr/>
          <p:nvPr/>
        </p:nvSpPr>
        <p:spPr>
          <a:xfrm>
            <a:off x="7093080" y="2421000"/>
            <a:ext cx="390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矩形 112653"/>
          <p:cNvSpPr/>
          <p:nvPr/>
        </p:nvSpPr>
        <p:spPr>
          <a:xfrm>
            <a:off x="1192320" y="2943360"/>
            <a:ext cx="390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112654"/>
          <p:cNvSpPr/>
          <p:nvPr/>
        </p:nvSpPr>
        <p:spPr>
          <a:xfrm>
            <a:off x="3244680" y="292104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112655"/>
          <p:cNvSpPr/>
          <p:nvPr/>
        </p:nvSpPr>
        <p:spPr>
          <a:xfrm>
            <a:off x="5135400" y="2935440"/>
            <a:ext cx="5619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112656"/>
          <p:cNvSpPr/>
          <p:nvPr/>
        </p:nvSpPr>
        <p:spPr>
          <a:xfrm>
            <a:off x="7080120" y="2935440"/>
            <a:ext cx="5335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112657"/>
          <p:cNvSpPr/>
          <p:nvPr/>
        </p:nvSpPr>
        <p:spPr>
          <a:xfrm>
            <a:off x="1177920" y="3490920"/>
            <a:ext cx="6476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矩形 112658"/>
          <p:cNvSpPr/>
          <p:nvPr/>
        </p:nvSpPr>
        <p:spPr>
          <a:xfrm>
            <a:off x="3240000" y="34783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矩形 112659"/>
          <p:cNvSpPr/>
          <p:nvPr/>
        </p:nvSpPr>
        <p:spPr>
          <a:xfrm>
            <a:off x="5130720" y="349236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矩形 112660"/>
          <p:cNvSpPr/>
          <p:nvPr/>
        </p:nvSpPr>
        <p:spPr>
          <a:xfrm>
            <a:off x="7075440" y="349236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矩形 112661"/>
          <p:cNvSpPr/>
          <p:nvPr/>
        </p:nvSpPr>
        <p:spPr>
          <a:xfrm>
            <a:off x="1187280" y="407664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矩形 112662"/>
          <p:cNvSpPr/>
          <p:nvPr/>
        </p:nvSpPr>
        <p:spPr>
          <a:xfrm>
            <a:off x="3240000" y="40543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矩形 112663"/>
          <p:cNvSpPr/>
          <p:nvPr/>
        </p:nvSpPr>
        <p:spPr>
          <a:xfrm>
            <a:off x="5130720" y="406872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矩形 112664"/>
          <p:cNvSpPr/>
          <p:nvPr/>
        </p:nvSpPr>
        <p:spPr>
          <a:xfrm>
            <a:off x="7075440" y="40687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矩形 112665"/>
          <p:cNvSpPr/>
          <p:nvPr/>
        </p:nvSpPr>
        <p:spPr>
          <a:xfrm>
            <a:off x="1187280" y="4581360"/>
            <a:ext cx="581040" cy="3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矩形 112666"/>
          <p:cNvSpPr/>
          <p:nvPr/>
        </p:nvSpPr>
        <p:spPr>
          <a:xfrm>
            <a:off x="3240000" y="455940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矩形 112667"/>
          <p:cNvSpPr/>
          <p:nvPr/>
        </p:nvSpPr>
        <p:spPr>
          <a:xfrm>
            <a:off x="5130720" y="457344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矩形 112668"/>
          <p:cNvSpPr/>
          <p:nvPr/>
        </p:nvSpPr>
        <p:spPr>
          <a:xfrm>
            <a:off x="7075440" y="457344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矩形 112669"/>
          <p:cNvSpPr/>
          <p:nvPr/>
        </p:nvSpPr>
        <p:spPr>
          <a:xfrm>
            <a:off x="1187280" y="512928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矩形 112670"/>
          <p:cNvSpPr/>
          <p:nvPr/>
        </p:nvSpPr>
        <p:spPr>
          <a:xfrm>
            <a:off x="3211560" y="514512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矩形 112671"/>
          <p:cNvSpPr/>
          <p:nvPr/>
        </p:nvSpPr>
        <p:spPr>
          <a:xfrm>
            <a:off x="5130720" y="512136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112672"/>
          <p:cNvSpPr/>
          <p:nvPr/>
        </p:nvSpPr>
        <p:spPr>
          <a:xfrm>
            <a:off x="7075440" y="5149800"/>
            <a:ext cx="5810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5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5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0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44080" cy="546732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2597040" y="1924200"/>
            <a:ext cx="8762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4140360" y="1916280"/>
            <a:ext cx="11048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7053120" y="2276640"/>
            <a:ext cx="352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8028000" y="2276640"/>
            <a:ext cx="352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1332000" y="2637000"/>
            <a:ext cx="352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2195640" y="2637000"/>
            <a:ext cx="352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8037360" y="266544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7"/>
          <p:cNvSpPr/>
          <p:nvPr/>
        </p:nvSpPr>
        <p:spPr>
          <a:xfrm>
            <a:off x="1268280" y="302580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8"/>
          <p:cNvSpPr/>
          <p:nvPr/>
        </p:nvSpPr>
        <p:spPr>
          <a:xfrm>
            <a:off x="2205000" y="302580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39"/>
          <p:cNvSpPr/>
          <p:nvPr/>
        </p:nvSpPr>
        <p:spPr>
          <a:xfrm>
            <a:off x="3068640" y="302580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0"/>
          <p:cNvSpPr/>
          <p:nvPr/>
        </p:nvSpPr>
        <p:spPr>
          <a:xfrm>
            <a:off x="2916360" y="3400560"/>
            <a:ext cx="67608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4941"/>
          <p:cNvSpPr/>
          <p:nvPr/>
        </p:nvSpPr>
        <p:spPr>
          <a:xfrm>
            <a:off x="6948360" y="3400560"/>
            <a:ext cx="9050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4942"/>
          <p:cNvSpPr/>
          <p:nvPr/>
        </p:nvSpPr>
        <p:spPr>
          <a:xfrm>
            <a:off x="3132000" y="3770280"/>
            <a:ext cx="12002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4943"/>
          <p:cNvSpPr/>
          <p:nvPr/>
        </p:nvSpPr>
        <p:spPr>
          <a:xfrm>
            <a:off x="6823080" y="4130640"/>
            <a:ext cx="676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4944"/>
          <p:cNvSpPr/>
          <p:nvPr/>
        </p:nvSpPr>
        <p:spPr>
          <a:xfrm>
            <a:off x="2627280" y="4508640"/>
            <a:ext cx="676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4945"/>
          <p:cNvSpPr/>
          <p:nvPr/>
        </p:nvSpPr>
        <p:spPr>
          <a:xfrm>
            <a:off x="3914640" y="4498920"/>
            <a:ext cx="676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4946"/>
          <p:cNvSpPr/>
          <p:nvPr/>
        </p:nvSpPr>
        <p:spPr>
          <a:xfrm>
            <a:off x="4643280" y="5229360"/>
            <a:ext cx="676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4947"/>
          <p:cNvSpPr/>
          <p:nvPr/>
        </p:nvSpPr>
        <p:spPr>
          <a:xfrm>
            <a:off x="2771640" y="5608800"/>
            <a:ext cx="67644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4948"/>
          <p:cNvSpPr/>
          <p:nvPr/>
        </p:nvSpPr>
        <p:spPr>
          <a:xfrm>
            <a:off x="5435640" y="5608800"/>
            <a:ext cx="67608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4949"/>
          <p:cNvSpPr/>
          <p:nvPr/>
        </p:nvSpPr>
        <p:spPr>
          <a:xfrm>
            <a:off x="4788000" y="5983200"/>
            <a:ext cx="923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4950"/>
          <p:cNvSpPr/>
          <p:nvPr/>
        </p:nvSpPr>
        <p:spPr>
          <a:xfrm>
            <a:off x="6948360" y="5978520"/>
            <a:ext cx="1428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23905" descr=""/>
          <p:cNvPicPr/>
          <p:nvPr/>
        </p:nvPicPr>
        <p:blipFill>
          <a:blip r:embed="rId1"/>
          <a:stretch/>
        </p:blipFill>
        <p:spPr>
          <a:xfrm>
            <a:off x="385920" y="1133640"/>
            <a:ext cx="8372160" cy="459072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23906"/>
          <p:cNvSpPr/>
          <p:nvPr/>
        </p:nvSpPr>
        <p:spPr>
          <a:xfrm>
            <a:off x="8205840" y="284796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3907"/>
          <p:cNvSpPr/>
          <p:nvPr/>
        </p:nvSpPr>
        <p:spPr>
          <a:xfrm>
            <a:off x="8172360" y="393372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2288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2387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22882"/>
          <p:cNvSpPr/>
          <p:nvPr/>
        </p:nvSpPr>
        <p:spPr>
          <a:xfrm>
            <a:off x="4471920" y="2038320"/>
            <a:ext cx="7714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2883"/>
          <p:cNvSpPr/>
          <p:nvPr/>
        </p:nvSpPr>
        <p:spPr>
          <a:xfrm>
            <a:off x="4233960" y="241920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2884"/>
          <p:cNvSpPr/>
          <p:nvPr/>
        </p:nvSpPr>
        <p:spPr>
          <a:xfrm>
            <a:off x="1187280" y="3141720"/>
            <a:ext cx="3591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22885"/>
          <p:cNvSpPr/>
          <p:nvPr/>
        </p:nvSpPr>
        <p:spPr>
          <a:xfrm>
            <a:off x="8172360" y="400536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22886"/>
          <p:cNvSpPr/>
          <p:nvPr/>
        </p:nvSpPr>
        <p:spPr>
          <a:xfrm>
            <a:off x="2157480" y="5065560"/>
            <a:ext cx="3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22887"/>
          <p:cNvSpPr/>
          <p:nvPr/>
        </p:nvSpPr>
        <p:spPr>
          <a:xfrm>
            <a:off x="4826160" y="5075280"/>
            <a:ext cx="4665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22888"/>
          <p:cNvSpPr/>
          <p:nvPr/>
        </p:nvSpPr>
        <p:spPr>
          <a:xfrm>
            <a:off x="7740720" y="5084640"/>
            <a:ext cx="4665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22889"/>
          <p:cNvSpPr/>
          <p:nvPr/>
        </p:nvSpPr>
        <p:spPr>
          <a:xfrm>
            <a:off x="1476360" y="5445000"/>
            <a:ext cx="30765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22890"/>
          <p:cNvSpPr/>
          <p:nvPr/>
        </p:nvSpPr>
        <p:spPr>
          <a:xfrm>
            <a:off x="6948360" y="5445000"/>
            <a:ext cx="1285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22891"/>
          <p:cNvSpPr/>
          <p:nvPr/>
        </p:nvSpPr>
        <p:spPr>
          <a:xfrm>
            <a:off x="1979640" y="5805360"/>
            <a:ext cx="1285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121857" descr=""/>
          <p:cNvPicPr/>
          <p:nvPr/>
        </p:nvPicPr>
        <p:blipFill>
          <a:blip r:embed="rId1"/>
          <a:stretch/>
        </p:blipFill>
        <p:spPr>
          <a:xfrm>
            <a:off x="590400" y="947880"/>
            <a:ext cx="7963200" cy="496224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21858"/>
          <p:cNvSpPr/>
          <p:nvPr/>
        </p:nvSpPr>
        <p:spPr>
          <a:xfrm>
            <a:off x="7786800" y="3095640"/>
            <a:ext cx="390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21859"/>
          <p:cNvSpPr/>
          <p:nvPr/>
        </p:nvSpPr>
        <p:spPr>
          <a:xfrm>
            <a:off x="7812000" y="4581360"/>
            <a:ext cx="390600" cy="3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20833" descr=""/>
          <p:cNvPicPr/>
          <p:nvPr/>
        </p:nvPicPr>
        <p:blipFill>
          <a:blip r:embed="rId1"/>
          <a:stretch/>
        </p:blipFill>
        <p:spPr>
          <a:xfrm>
            <a:off x="538200" y="1666800"/>
            <a:ext cx="8067600" cy="352440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20834"/>
          <p:cNvSpPr/>
          <p:nvPr/>
        </p:nvSpPr>
        <p:spPr>
          <a:xfrm>
            <a:off x="7796160" y="167652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20835"/>
          <p:cNvSpPr/>
          <p:nvPr/>
        </p:nvSpPr>
        <p:spPr>
          <a:xfrm>
            <a:off x="7812000" y="321300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980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10720" cy="583884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9810"/>
          <p:cNvSpPr/>
          <p:nvPr/>
        </p:nvSpPr>
        <p:spPr>
          <a:xfrm>
            <a:off x="7812000" y="126828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9811"/>
          <p:cNvSpPr/>
          <p:nvPr/>
        </p:nvSpPr>
        <p:spPr>
          <a:xfrm>
            <a:off x="7812000" y="4292640"/>
            <a:ext cx="3906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8785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8786"/>
          <p:cNvSpPr/>
          <p:nvPr/>
        </p:nvSpPr>
        <p:spPr>
          <a:xfrm>
            <a:off x="6910560" y="2257560"/>
            <a:ext cx="475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8787"/>
          <p:cNvSpPr/>
          <p:nvPr/>
        </p:nvSpPr>
        <p:spPr>
          <a:xfrm>
            <a:off x="6948360" y="2708280"/>
            <a:ext cx="476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8788"/>
          <p:cNvSpPr/>
          <p:nvPr/>
        </p:nvSpPr>
        <p:spPr>
          <a:xfrm>
            <a:off x="6516720" y="3241800"/>
            <a:ext cx="6001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8789"/>
          <p:cNvSpPr/>
          <p:nvPr/>
        </p:nvSpPr>
        <p:spPr>
          <a:xfrm>
            <a:off x="6084720" y="3716280"/>
            <a:ext cx="6001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8790"/>
          <p:cNvSpPr/>
          <p:nvPr/>
        </p:nvSpPr>
        <p:spPr>
          <a:xfrm>
            <a:off x="6804000" y="4221000"/>
            <a:ext cx="6001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8791"/>
          <p:cNvSpPr/>
          <p:nvPr/>
        </p:nvSpPr>
        <p:spPr>
          <a:xfrm>
            <a:off x="6443640" y="4724280"/>
            <a:ext cx="6001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7761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010360" cy="1942920"/>
          </a:xfrm>
          <a:prstGeom prst="rect">
            <a:avLst/>
          </a:prstGeom>
          <a:ln w="0">
            <a:noFill/>
          </a:ln>
        </p:spPr>
      </p:pic>
      <p:pic>
        <p:nvPicPr>
          <p:cNvPr id="1487" name="图片 117762" descr=""/>
          <p:cNvPicPr/>
          <p:nvPr/>
        </p:nvPicPr>
        <p:blipFill>
          <a:blip r:embed="rId2"/>
          <a:stretch/>
        </p:blipFill>
        <p:spPr>
          <a:xfrm>
            <a:off x="1085760" y="2795760"/>
            <a:ext cx="6943680" cy="3838320"/>
          </a:xfrm>
          <a:prstGeom prst="rect">
            <a:avLst/>
          </a:prstGeom>
          <a:ln w="0">
            <a:noFill/>
          </a:ln>
        </p:spPr>
      </p:pic>
      <p:sp>
        <p:nvSpPr>
          <p:cNvPr id="1488" name="矩形 117763"/>
          <p:cNvSpPr/>
          <p:nvPr/>
        </p:nvSpPr>
        <p:spPr>
          <a:xfrm>
            <a:off x="2195640" y="380988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7764"/>
          <p:cNvSpPr/>
          <p:nvPr/>
        </p:nvSpPr>
        <p:spPr>
          <a:xfrm>
            <a:off x="3995640" y="328464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7765"/>
          <p:cNvSpPr/>
          <p:nvPr/>
        </p:nvSpPr>
        <p:spPr>
          <a:xfrm>
            <a:off x="6732720" y="378936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7766"/>
          <p:cNvSpPr/>
          <p:nvPr/>
        </p:nvSpPr>
        <p:spPr>
          <a:xfrm>
            <a:off x="1763640" y="429264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7767"/>
          <p:cNvSpPr/>
          <p:nvPr/>
        </p:nvSpPr>
        <p:spPr>
          <a:xfrm>
            <a:off x="6732720" y="427356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7768"/>
          <p:cNvSpPr/>
          <p:nvPr/>
        </p:nvSpPr>
        <p:spPr>
          <a:xfrm>
            <a:off x="2556000" y="472428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7769"/>
          <p:cNvSpPr/>
          <p:nvPr/>
        </p:nvSpPr>
        <p:spPr>
          <a:xfrm>
            <a:off x="6300720" y="472428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7770"/>
          <p:cNvSpPr/>
          <p:nvPr/>
        </p:nvSpPr>
        <p:spPr>
          <a:xfrm>
            <a:off x="2843280" y="5205240"/>
            <a:ext cx="638280" cy="3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7771"/>
          <p:cNvSpPr/>
          <p:nvPr/>
        </p:nvSpPr>
        <p:spPr>
          <a:xfrm>
            <a:off x="5992920" y="5257800"/>
            <a:ext cx="637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7772"/>
          <p:cNvSpPr/>
          <p:nvPr/>
        </p:nvSpPr>
        <p:spPr>
          <a:xfrm>
            <a:off x="2700360" y="573408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7773"/>
          <p:cNvSpPr/>
          <p:nvPr/>
        </p:nvSpPr>
        <p:spPr>
          <a:xfrm>
            <a:off x="6443640" y="573408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7774"/>
          <p:cNvSpPr/>
          <p:nvPr/>
        </p:nvSpPr>
        <p:spPr>
          <a:xfrm>
            <a:off x="2987640" y="619452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17775"/>
          <p:cNvSpPr/>
          <p:nvPr/>
        </p:nvSpPr>
        <p:spPr>
          <a:xfrm>
            <a:off x="5867280" y="6194520"/>
            <a:ext cx="638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7:51:52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